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C067-A105-430B-8B3D-B602B5E41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A642-6F06-42AB-87BB-EB49D5A0C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1A43-1DC9-4950-9B51-E73C8BF54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D74F-5164-4614-8902-A4F11DA49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4E110-3E9D-4C91-8DCE-952A15639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6A37C-87A8-4121-8615-498BF4FF2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F08A2-0E5C-4839-9A84-049CC5F6C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2B856-B284-4CFA-B43A-756ACBFB4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53CBF-07F3-4493-957E-50E985094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180E7-BD7A-4856-AF95-A956EB170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939B5-1C70-4A30-B338-44FF96EA0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D0A5-B0B8-4BBF-97AD-D1D60DADC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B3A47-A629-471E-AFC2-B42562BEC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B2F88-4CCD-4B49-86D2-C4402A21B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57DF3-332B-4217-9EB2-B12E153CD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EF3B9-3A94-4210-AC14-F521542EA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29D5C-7224-48D0-A276-138582991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0F69-A936-4068-9C75-B3C424646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B5F2-17C0-479D-A89D-CEE22AC1B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6E9E-7F48-4195-A3ED-DC56EAFA4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95F7-6752-4DBC-AF72-D97E84F11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2E4F-26AB-4EF6-8166-FAD1EE560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CD0D-A6FA-4928-8123-70A126BCF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87CD-31A4-451B-B740-3FEBD19F4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5BE42-ECD5-4061-B2A7-76792ED77D05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A69D8-D14F-4CC9-87C6-DAF3FA430EB6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Battle of Midway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y: Richard Niemczy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Battle of Midway Background Info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(Why) On Dec. 7, 1941, Japan attacked Pearl Harbor and that led the U.S. join the war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On June 4, 1942, America had a fleet of ships heading to Japan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(When/Where) On June 4, 1942, Japan had counter attacked the United States last remaining carriers ships, on a small island called Midway on the Pacific Ocean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war had lasted from June 4-6, 1942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One of the major United States ship carrier the USS Yorktown was bombed by 3 Japanese bomber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United States had Defeated the Japanese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is changed the war by further invasions from the Japanese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is caused a plan of island hoping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Battle of Midway Map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828800" y="1066680"/>
            <a:ext cx="5162400" cy="524376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2519280" y="6324480"/>
            <a:ext cx="3608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http://www.navy.mil/navydata/cno/n87/usw/issue_11/images/map1.jpg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Battle of Midway Commanders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United Stat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hester W. Nimitz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rank J. Fletche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aymond A. Spruanc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mpire of Japa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Yamamoto Isoroku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Nagumo Chuichi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Yamaguchi Tan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yusaku Yanagimoto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Kondo Nobutak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5257800" y="3809880"/>
            <a:ext cx="2112840" cy="255276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4628520" y="6400800"/>
            <a:ext cx="3463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http://static.howstuffworks.com/gif/axis-conquers-philippines-12.jpg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990720" y="3124080"/>
            <a:ext cx="2195280" cy="278136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860040" y="5943600"/>
            <a:ext cx="243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http://www.history.navy.mil/pics/spruancer.jpg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Battle of Midway Strengths 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United Stat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3 carrier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~25 support ship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233 carrier aircraft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127 land-based aircraf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mpire of Japa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4 carrier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2 battleship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~15 support ship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248 carrier aircraf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16 float plan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762120" y="3886200"/>
            <a:ext cx="6886440" cy="220968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2545200" y="6172200"/>
            <a:ext cx="2757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http://www.midway2009.com/YORKTOWN-sinking.jpg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Battle of Midway Photos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648320" cy="376560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495720" y="5715000"/>
            <a:ext cx="4358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http://realwarphotos.com/yahoo_site_admin/assets/images/B23902.268165905_std.jpg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5181480" y="1752480"/>
            <a:ext cx="3256200" cy="373392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5442120" y="5715000"/>
            <a:ext cx="2930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http://www.microworks.net/PACIFIC/battles/Midway3.jpg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iblograph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tokesbury, James L. "World War II." 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World Book Student.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World Book, 2009. Web. 4 Dec. 2009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Naval History &amp; Heritage Command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. N.p., n.d. Web. 8 Dec. 2009.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     &lt;http://www.history.navy.mil/photos/events/wwii-pac/midway/midway.htm&gt;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Wikipedia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. N.p., n.d. Web. 8 Dec. 2009. &lt;http://en.wikipedia.org/wiki/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     Battle_of_Midway&gt;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4T15:01:48Z</dcterms:created>
  <dc:creator>30326</dc:creator>
  <dc:description/>
  <dc:language>en-US</dc:language>
  <cp:lastModifiedBy>30326</cp:lastModifiedBy>
  <dcterms:modified xsi:type="dcterms:W3CDTF">2009-12-18T12:32:50Z</dcterms:modified>
  <cp:revision>21</cp:revision>
  <dc:subject/>
  <dc:title>Battle of Midway</dc:title>
</cp:coreProperties>
</file>